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1D7BE1-BCD0-4AD4-A024-06E83F6D5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5200" y="530280"/>
            <a:ext cx="543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240" y="112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80" y="11253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Brown / Brown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72680" y="600408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78280" y="1987560"/>
            <a:ext cx="35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0" y="19717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" y="600696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Michael Opdenacker</cp:lastModifiedBy>
  <dcterms:modified xsi:type="dcterms:W3CDTF">2013-09-09T04:13:34Z</dcterms:modified>
  <cp:revision>3</cp:revision>
  <dc:subject/>
  <dc:title>スライド 1</dc:title>
</cp:coreProperties>
</file>